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71760" y="0"/>
            <a:ext cx="464328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9280" y="980640"/>
            <a:ext cx="8785440" cy="25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79280" y="3774240"/>
            <a:ext cx="8785440" cy="25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71760" y="0"/>
            <a:ext cx="464328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79280" y="980640"/>
            <a:ext cx="4287240" cy="25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1440" y="980640"/>
            <a:ext cx="4287240" cy="25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79280" y="3774240"/>
            <a:ext cx="4287240" cy="25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1440" y="3774240"/>
            <a:ext cx="4287240" cy="25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71760" y="0"/>
            <a:ext cx="464328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79280" y="980640"/>
            <a:ext cx="2828520" cy="25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49640" y="980640"/>
            <a:ext cx="2828520" cy="25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0000" y="980640"/>
            <a:ext cx="2828520" cy="25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79280" y="3774240"/>
            <a:ext cx="2828520" cy="25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49640" y="3774240"/>
            <a:ext cx="2828520" cy="25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0000" y="3774240"/>
            <a:ext cx="2828520" cy="25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71760" y="0"/>
            <a:ext cx="464328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79280" y="980640"/>
            <a:ext cx="8785440" cy="534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71760" y="0"/>
            <a:ext cx="464328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79280" y="980640"/>
            <a:ext cx="8785440" cy="53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71760" y="0"/>
            <a:ext cx="464328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9280" y="980640"/>
            <a:ext cx="4287240" cy="53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1440" y="980640"/>
            <a:ext cx="4287240" cy="53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71760" y="0"/>
            <a:ext cx="464328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571760" y="0"/>
            <a:ext cx="4643280" cy="38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71760" y="0"/>
            <a:ext cx="464328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79280" y="980640"/>
            <a:ext cx="4287240" cy="25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1440" y="980640"/>
            <a:ext cx="4287240" cy="53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79280" y="3774240"/>
            <a:ext cx="4287240" cy="25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71760" y="0"/>
            <a:ext cx="464328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79280" y="980640"/>
            <a:ext cx="8785440" cy="534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71760" y="0"/>
            <a:ext cx="464328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79280" y="980640"/>
            <a:ext cx="4287240" cy="53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1440" y="980640"/>
            <a:ext cx="4287240" cy="25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81440" y="3774240"/>
            <a:ext cx="4287240" cy="25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71760" y="0"/>
            <a:ext cx="464328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80" y="980640"/>
            <a:ext cx="4287240" cy="25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1440" y="980640"/>
            <a:ext cx="4287240" cy="25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79280" y="3774240"/>
            <a:ext cx="8785440" cy="25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71760" y="0"/>
            <a:ext cx="464328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79280" y="980640"/>
            <a:ext cx="8785440" cy="25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79280" y="3774240"/>
            <a:ext cx="8785440" cy="25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71760" y="0"/>
            <a:ext cx="464328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9280" y="980640"/>
            <a:ext cx="4287240" cy="25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1440" y="980640"/>
            <a:ext cx="4287240" cy="25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79280" y="3774240"/>
            <a:ext cx="4287240" cy="25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81440" y="3774240"/>
            <a:ext cx="4287240" cy="25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71760" y="0"/>
            <a:ext cx="464328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980640"/>
            <a:ext cx="2828520" cy="25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49640" y="980640"/>
            <a:ext cx="2828520" cy="25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20000" y="980640"/>
            <a:ext cx="2828520" cy="25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79280" y="3774240"/>
            <a:ext cx="2828520" cy="25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49640" y="3774240"/>
            <a:ext cx="2828520" cy="25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20000" y="3774240"/>
            <a:ext cx="2828520" cy="25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71760" y="0"/>
            <a:ext cx="464328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79280" y="980640"/>
            <a:ext cx="8785440" cy="53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71760" y="0"/>
            <a:ext cx="464328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79280" y="980640"/>
            <a:ext cx="4287240" cy="53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1440" y="980640"/>
            <a:ext cx="4287240" cy="53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71760" y="0"/>
            <a:ext cx="464328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71760" y="0"/>
            <a:ext cx="4643280" cy="38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71760" y="0"/>
            <a:ext cx="464328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79280" y="980640"/>
            <a:ext cx="4287240" cy="25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1440" y="980640"/>
            <a:ext cx="4287240" cy="53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79280" y="3774240"/>
            <a:ext cx="4287240" cy="25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71760" y="0"/>
            <a:ext cx="464328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79280" y="980640"/>
            <a:ext cx="4287240" cy="53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1440" y="980640"/>
            <a:ext cx="4287240" cy="25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1440" y="3774240"/>
            <a:ext cx="4287240" cy="25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71760" y="0"/>
            <a:ext cx="464328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79280" y="980640"/>
            <a:ext cx="4287240" cy="25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1440" y="980640"/>
            <a:ext cx="4287240" cy="25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79280" y="3774240"/>
            <a:ext cx="8785440" cy="25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71760" y="0"/>
            <a:ext cx="464328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980640"/>
            <a:ext cx="8785440" cy="53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3366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50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50"/>
              </a:spcBef>
              <a:buClr>
                <a:srgbClr val="003366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Line 4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8920" y="6436800"/>
            <a:ext cx="799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f. Dr. Mesut Güneş                      www.inf.fu-berlin.de/inst/ag-tech                 TI II -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7"/>
          <p:cNvSpPr/>
          <p:nvPr/>
        </p:nvSpPr>
        <p:spPr>
          <a:xfrm>
            <a:off x="0" y="6381720"/>
            <a:ext cx="914400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Text Box 8"/>
          <p:cNvSpPr/>
          <p:nvPr/>
        </p:nvSpPr>
        <p:spPr>
          <a:xfrm>
            <a:off x="8172360" y="6381720"/>
            <a:ext cx="9716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F8C27-DCF0-407B-B08D-DB1131BCEDFD}" type="slidenum">
              <a:rPr b="0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" name="Picture 12" descr="Logo_RGB"/>
          <p:cNvPicPr/>
          <p:nvPr/>
        </p:nvPicPr>
        <p:blipFill>
          <a:blip r:embed="rId2"/>
          <a:stretch/>
        </p:blipFill>
        <p:spPr>
          <a:xfrm>
            <a:off x="6227640" y="79200"/>
            <a:ext cx="2874960" cy="760680"/>
          </a:xfrm>
          <a:prstGeom prst="rect">
            <a:avLst/>
          </a:prstGeom>
          <a:ln w="0">
            <a:noFill/>
          </a:ln>
        </p:spPr>
      </p:pic>
      <p:pic>
        <p:nvPicPr>
          <p:cNvPr id="7" name="Grafik 9" descr="Logo_FU_TechnInfo_engl.jpg"/>
          <p:cNvPicPr/>
          <p:nvPr/>
        </p:nvPicPr>
        <p:blipFill>
          <a:blip r:embed="rId3"/>
          <a:stretch/>
        </p:blipFill>
        <p:spPr>
          <a:xfrm>
            <a:off x="0" y="0"/>
            <a:ext cx="1500120" cy="720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6"/>
          <p:cNvSpPr/>
          <p:nvPr/>
        </p:nvSpPr>
        <p:spPr>
          <a:xfrm>
            <a:off x="0" y="6381720"/>
            <a:ext cx="914400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Text Box 7"/>
          <p:cNvSpPr/>
          <p:nvPr/>
        </p:nvSpPr>
        <p:spPr>
          <a:xfrm>
            <a:off x="8172360" y="6381720"/>
            <a:ext cx="9716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703A9-C31A-4226-A22F-E39A9BC33B13}" type="slidenum">
              <a:rPr b="0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" name="Picture 11" descr="Logo_RGB"/>
          <p:cNvPicPr/>
          <p:nvPr/>
        </p:nvPicPr>
        <p:blipFill>
          <a:blip r:embed="rId2"/>
          <a:stretch/>
        </p:blipFill>
        <p:spPr>
          <a:xfrm>
            <a:off x="6227640" y="79200"/>
            <a:ext cx="2874960" cy="760680"/>
          </a:xfrm>
          <a:prstGeom prst="rect">
            <a:avLst/>
          </a:prstGeom>
          <a:ln w="0">
            <a:noFill/>
          </a:ln>
        </p:spPr>
      </p:pic>
      <p:pic>
        <p:nvPicPr>
          <p:cNvPr id="47" name="Grafik 9" descr="Logo_FU_TechnInfo_engl.jpg"/>
          <p:cNvPicPr/>
          <p:nvPr/>
        </p:nvPicPr>
        <p:blipFill>
          <a:blip r:embed="rId3"/>
          <a:stretch/>
        </p:blipFill>
        <p:spPr>
          <a:xfrm>
            <a:off x="500040" y="1000080"/>
            <a:ext cx="4756320" cy="2286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71760" y="0"/>
            <a:ext cx="464328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179280" y="980640"/>
            <a:ext cx="8785440" cy="53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3366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50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50"/>
              </a:spcBef>
              <a:buClr>
                <a:srgbClr val="003366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2"/>
          </p:nvPr>
        </p:nvSpPr>
        <p:spPr>
          <a:xfrm>
            <a:off x="178920" y="6436800"/>
            <a:ext cx="799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f. Dr. Mesut Güneş                      www.inf.fu-berlin.de/inst/ag-tech                 TI II -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cst.mi.fu-berlin.de/" TargetMode="External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0040" y="3285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39640" y="4714560"/>
            <a:ext cx="8353440" cy="160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Nam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Computer Systems and Telematic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Institute of Computer Scienc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Freie Universität Berli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3366"/>
                </a:solidFill>
                <a:uFillTx/>
                <a:latin typeface="Verdana"/>
                <a:hlinkClick r:id="rId1"/>
              </a:rPr>
              <a:t>http://cst.mi.fu-berlin.de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4:39:04Z</dcterms:created>
  <dc:creator>Mesut Günes</dc:creator>
  <dc:description>Version 0.9, 10.11.2005</dc:description>
  <cp:keywords>Telematics Computer Networking</cp:keywords>
  <dc:language>en-US</dc:language>
  <cp:lastModifiedBy>Carsten Michutta</cp:lastModifiedBy>
  <cp:lastPrinted>2002-06-26T11:04:16Z</cp:lastPrinted>
  <dcterms:modified xsi:type="dcterms:W3CDTF">2008-09-29T07:57:44Z</dcterms:modified>
  <cp:revision>8</cp:revision>
  <dc:subject/>
  <dc:title>Vortrag zum Thema: Was auch immer!</dc:title>
</cp:coreProperties>
</file>